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5D639-E206-4723-BEB8-B6BF49E73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B9C0D-7565-4AE6-9F25-FCD1A2A52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DB468-525A-4216-A1D4-1F236510B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006C6-BB0B-42C7-A053-801B253AF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818376-BB72-4A52-98DB-AB455F4AA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156458-691B-409B-B31F-69A27C455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8106AC-F136-410F-8B61-FE076C5DC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F06145-305E-4BB3-95E9-991103E0F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CE8646-BD8D-492B-8B7F-973A79E28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0CB2D6-6FFD-4E4B-8DCB-E214640DE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DDF25D-897A-4898-A41F-8225F55D9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DE7E7-988B-4901-B05D-6BA920C15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E7DC14-FEC4-425B-9E39-3D0380539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E56E5B-E828-44C4-B7E5-5CA8EA72D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92AE53-114A-4492-8734-C83EA5B68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F215DB-C6CA-4140-A17A-B7C6EFFF1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632C81-226B-4814-BC11-FC8DF9374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5EF518-CEDE-4B03-966D-DA0FAFB6C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01AA47-23CB-4BDA-A72D-C4DFF277F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DF85B5-5CA7-4648-88BE-C09BB6A6C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2FD7AC-62DA-4EC5-AD2F-29866AB9C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07D63F-4E13-4D27-AD98-3B7528B32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023B7-A700-47C9-80C3-E746C4AC9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84E480-409A-4A63-845E-BC9F41A23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A25DD3-B066-4AE2-A8B5-8BF6641DC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A04B25-44F5-44D9-8C80-0E51C1AC0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91F6F5-5502-4E85-BFC4-3776ACF08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A4C70A-7AAB-4356-A0F7-6579F88C1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EEAF03-9264-4235-9067-4C15380CD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1ED7EE-BA14-4E8F-B2AF-A7C2337C6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88D9994-0125-482C-A63E-6D4AFD287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6129DC7-A22D-4090-A629-9F4CC55D3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15F049E-C89A-4206-BFED-2908B728C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968C4-EBF1-4842-87A5-8766EA431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1274F36-2927-4D7C-9EB1-98EFEED0A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8107DDD-CCC2-4317-8D5E-789DA7B69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1A45A10-94E8-41ED-9922-395828C17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1E4DD63-9E47-4656-B4AD-36A3266F2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2545951-B3C2-41C7-8985-4B196DBA3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98B98F3-1CA7-4E0E-AF3B-42C85B9E6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FC9D2F0-3F0A-4A38-8EB1-1A9506D75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FDDEAF4-5D94-4048-8C03-DA6D262C1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4DB20D6-A976-46F3-AEAE-72BDA1ABC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4D78A-8AD2-48EB-B80B-91A48149F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A64C5-69D0-4C51-876C-AFB8D4B41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2152C-D0BE-49B8-9861-2B47D060E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1F22A-A7DA-4BD7-9725-B8FEEF1E9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DFAB8-140A-443B-AA9B-88C13FAF1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4C9D8-01E6-4B63-AA6B-381F64604152}" type="slidenum">
              <a:rPr b="0" lang="hu-H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Egyenes összekötő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Egyenes összekötő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Ellipszis 8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C30B8-9198-4AF9-AAD0-0DBF5E257072}" type="slidenum">
              <a:rPr b="0" lang="hu-H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Egyenes összekötő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A72B8-AF1D-47F6-8245-86A8C8EC2F54}" type="slidenum">
              <a:rPr b="0" lang="hu-H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Egyenes összekötő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Egyenes összekötő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265C2-6F34-47B7-A5C1-14962A820635}" type="slidenum">
              <a:rPr b="0" lang="hu-H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370008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fefac9"/>
                </a:solidFill>
                <a:latin typeface="Constantia"/>
              </a:rPr>
              <a:t>A Merkúr hadművelet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1" name="Cím 1" descr=""/>
          <p:cNvPicPr/>
          <p:nvPr/>
        </p:nvPicPr>
        <p:blipFill>
          <a:blip r:embed="rId1"/>
          <a:stretch/>
        </p:blipFill>
        <p:spPr>
          <a:xfrm>
            <a:off x="676440" y="182520"/>
            <a:ext cx="7785000" cy="14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Cím 2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2" descr=""/>
          <p:cNvPicPr/>
          <p:nvPr/>
        </p:nvPicPr>
        <p:blipFill>
          <a:blip r:embed="rId2"/>
          <a:stretch/>
        </p:blipFill>
        <p:spPr>
          <a:xfrm>
            <a:off x="3780000" y="2708280"/>
            <a:ext cx="4375080" cy="3035160"/>
          </a:xfrm>
          <a:prstGeom prst="rect">
            <a:avLst/>
          </a:prstGeom>
          <a:ln w="0">
            <a:noFill/>
          </a:ln>
        </p:spPr>
      </p:pic>
      <p:sp>
        <p:nvSpPr>
          <p:cNvPr id="174" name="Szövegdoboz 5"/>
          <p:cNvSpPr/>
          <p:nvPr/>
        </p:nvSpPr>
        <p:spPr>
          <a:xfrm>
            <a:off x="716400" y="1341360"/>
            <a:ext cx="682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 Black"/>
              </a:rPr>
              <a:t>1940.</a:t>
            </a:r>
            <a:r>
              <a:rPr b="0" lang="hu-HU" sz="1800" spc="-1" strike="noStrike">
                <a:solidFill>
                  <a:srgbClr val="ffffff"/>
                </a:solidFill>
                <a:latin typeface="Constantia"/>
              </a:rPr>
              <a:t> október 28-án Olaszország megtámadta Görögországo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Szövegdoboz 6"/>
          <p:cNvSpPr/>
          <p:nvPr/>
        </p:nvSpPr>
        <p:spPr>
          <a:xfrm>
            <a:off x="567360" y="1700280"/>
            <a:ext cx="855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Constantia"/>
              </a:rPr>
              <a:t>A harc </a:t>
            </a:r>
            <a:r>
              <a:rPr b="0" lang="hu-HU" sz="1800" spc="-1" strike="noStrike">
                <a:solidFill>
                  <a:srgbClr val="ffffff"/>
                </a:solidFill>
                <a:latin typeface="Arial Black"/>
              </a:rPr>
              <a:t>1941. </a:t>
            </a:r>
            <a:r>
              <a:rPr b="0" lang="hu-HU" sz="1800" spc="-1" strike="noStrike">
                <a:solidFill>
                  <a:srgbClr val="ffffff"/>
                </a:solidFill>
                <a:latin typeface="Constantia"/>
              </a:rPr>
              <a:t>április 23-áig tartott, amikor is az olasz támadást visszaverték a </a:t>
            </a:r>
            <a:br>
              <a:rPr sz="1800"/>
            </a:br>
            <a:r>
              <a:rPr b="0" lang="hu-HU" sz="1800" spc="-1" strike="noStrike">
                <a:solidFill>
                  <a:srgbClr val="ffffff"/>
                </a:solidFill>
                <a:latin typeface="Constantia"/>
              </a:rPr>
              <a:t>görögök, brit segítségge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Szövegdoboz 7"/>
          <p:cNvSpPr/>
          <p:nvPr/>
        </p:nvSpPr>
        <p:spPr>
          <a:xfrm>
            <a:off x="889920" y="2781360"/>
            <a:ext cx="2905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Constantia"/>
              </a:rPr>
              <a:t>Ezt követően a</a:t>
            </a:r>
            <a:br>
              <a:rPr sz="1800"/>
            </a:br>
            <a:r>
              <a:rPr b="0" lang="hu-HU" sz="1800" spc="-1" strike="noStrike">
                <a:solidFill>
                  <a:srgbClr val="ffffff"/>
                </a:solidFill>
                <a:latin typeface="Constantia"/>
              </a:rPr>
              <a:t>szövetségesek teljes</a:t>
            </a:r>
            <a:br>
              <a:rPr sz="1800"/>
            </a:br>
            <a:r>
              <a:rPr b="0" lang="hu-HU" sz="1800" spc="-1" strike="noStrike">
                <a:solidFill>
                  <a:srgbClr val="ffffff"/>
                </a:solidFill>
                <a:latin typeface="Constantia"/>
              </a:rPr>
              <a:t>Görögországot, beleértve</a:t>
            </a:r>
            <a:br>
              <a:rPr sz="1800"/>
            </a:br>
            <a:r>
              <a:rPr b="0" lang="hu-HU" sz="1800" spc="-1" strike="noStrike">
                <a:solidFill>
                  <a:srgbClr val="ffffff"/>
                </a:solidFill>
                <a:latin typeface="Constantia"/>
              </a:rPr>
              <a:t>Krétát, megszállták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Szövegdoboz 8"/>
          <p:cNvSpPr/>
          <p:nvPr/>
        </p:nvSpPr>
        <p:spPr>
          <a:xfrm>
            <a:off x="3694680" y="6021360"/>
            <a:ext cx="392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Constantia"/>
              </a:rPr>
              <a:t>Görög katonák, harckészültségb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Constantia"/>
              </a:rPr>
              <a:t>A német főparancsnokság már a Barbarossa hadműveletet tervezte, amikor szóba került egy esetleges megszálló-hadművelet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Constantia"/>
              </a:rPr>
              <a:t>Lévén, hogy a Wehrmacht földi része, azaz a Heer szovjet területre lesz mozgósítva, a parancsnokság fejében felmerült egy ötlet, hogy Kréta szigetének megszállását a német légierő, vagyis a Luftwaffe vezesse. Hitlernek tetszett a gondolat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Constantia"/>
              </a:rPr>
              <a:t>A hadművelet </a:t>
            </a:r>
            <a:r>
              <a:rPr b="0" lang="hu-HU" sz="2000" spc="-1" strike="noStrike">
                <a:solidFill>
                  <a:srgbClr val="ffffff"/>
                </a:solidFill>
                <a:latin typeface="Arial Black"/>
              </a:rPr>
              <a:t>1941.</a:t>
            </a:r>
            <a:r>
              <a:rPr b="0" lang="hu-HU" sz="2000" spc="-1" strike="noStrike">
                <a:solidFill>
                  <a:srgbClr val="ffffff"/>
                </a:solidFill>
                <a:latin typeface="Constantia"/>
              </a:rPr>
              <a:t> május 20-án kezdődött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Constantia"/>
              </a:rPr>
              <a:t>Az inváziót egy sorozatos légitámadás előzte meg, hogy megszerezzék a légi fölényt. Ez sikerült is, viszont a szövetségesek továbbra is birtokában voltak a tengerészeti fölénynek. Ezért is tűnt okosabbnak a légi egységek bevetése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9" name="Cím 2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4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ffffff"/>
                </a:solidFill>
                <a:latin typeface="Constantia"/>
              </a:rPr>
              <a:t>A Luftwaffe két főegységet vetett be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ffffff"/>
                </a:solidFill>
                <a:latin typeface="Constantia"/>
              </a:rPr>
              <a:t>A Fallschrimjägert (jelentése: Ejtőernyős vadász)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ffffff"/>
                </a:solidFill>
                <a:latin typeface="Constantia"/>
              </a:rPr>
              <a:t>És a Gebirgsjägert (jelentése Hegyivadász)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ffffff"/>
                </a:solidFill>
                <a:latin typeface="Constantia"/>
              </a:rPr>
              <a:t>A katonák kétféleképpen érték el a területeket, ejtőernyővel, illetve vitorlázógépekkel. </a:t>
            </a:r>
            <a:br>
              <a:rPr sz="2600"/>
            </a:br>
            <a:r>
              <a:rPr b="0" lang="hu-HU" sz="26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81" name="Cím 2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2" descr=""/>
          <p:cNvPicPr/>
          <p:nvPr/>
        </p:nvPicPr>
        <p:blipFill>
          <a:blip r:embed="rId2"/>
          <a:stretch/>
        </p:blipFill>
        <p:spPr>
          <a:xfrm>
            <a:off x="5219640" y="3789360"/>
            <a:ext cx="3667320" cy="2446200"/>
          </a:xfrm>
          <a:prstGeom prst="rect">
            <a:avLst/>
          </a:prstGeom>
          <a:ln w="0">
            <a:noFill/>
          </a:ln>
        </p:spPr>
      </p:pic>
      <p:sp>
        <p:nvSpPr>
          <p:cNvPr id="183" name="Szövegdoboz 4"/>
          <p:cNvSpPr/>
          <p:nvPr/>
        </p:nvSpPr>
        <p:spPr>
          <a:xfrm>
            <a:off x="5502600" y="6308640"/>
            <a:ext cx="24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 Black"/>
              </a:rPr>
              <a:t>DFS 230 vitorlázógé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Szövegdoboz 5"/>
          <p:cNvSpPr/>
          <p:nvPr/>
        </p:nvSpPr>
        <p:spPr>
          <a:xfrm>
            <a:off x="214560" y="4365720"/>
            <a:ext cx="414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Constantia"/>
              </a:rPr>
              <a:t>A német egységek száma körülbelül </a:t>
            </a:r>
            <a:br>
              <a:rPr sz="1800"/>
            </a:br>
            <a:r>
              <a:rPr b="0" lang="hu-HU" sz="1800" spc="-1" strike="noStrike">
                <a:solidFill>
                  <a:srgbClr val="ffffff"/>
                </a:solidFill>
                <a:latin typeface="Constantia"/>
              </a:rPr>
              <a:t>30.000 fő lehetet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4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"/>
          <p:cNvPicPr/>
          <p:nvPr/>
        </p:nvPicPr>
        <p:blipFill>
          <a:blip r:embed="rId1"/>
          <a:stretch/>
        </p:blipFill>
        <p:spPr>
          <a:xfrm>
            <a:off x="468360" y="333360"/>
            <a:ext cx="4535280" cy="2646360"/>
          </a:xfrm>
          <a:prstGeom prst="rect">
            <a:avLst/>
          </a:prstGeom>
          <a:ln w="0">
            <a:noFill/>
          </a:ln>
        </p:spPr>
      </p:pic>
      <p:sp>
        <p:nvSpPr>
          <p:cNvPr id="186" name="Szövegdoboz 4"/>
          <p:cNvSpPr/>
          <p:nvPr/>
        </p:nvSpPr>
        <p:spPr>
          <a:xfrm>
            <a:off x="5303520" y="404640"/>
            <a:ext cx="292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Constantia"/>
              </a:rPr>
              <a:t>Német Fallschrimjägere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Picture 3" descr=""/>
          <p:cNvPicPr/>
          <p:nvPr/>
        </p:nvPicPr>
        <p:blipFill>
          <a:blip r:embed="rId2"/>
          <a:stretch/>
        </p:blipFill>
        <p:spPr>
          <a:xfrm>
            <a:off x="4140360" y="3141720"/>
            <a:ext cx="4752720" cy="3325680"/>
          </a:xfrm>
          <a:prstGeom prst="rect">
            <a:avLst/>
          </a:prstGeom>
          <a:ln w="0">
            <a:noFill/>
          </a:ln>
        </p:spPr>
      </p:pic>
      <p:sp>
        <p:nvSpPr>
          <p:cNvPr id="188" name="Szövegdoboz 6"/>
          <p:cNvSpPr/>
          <p:nvPr/>
        </p:nvSpPr>
        <p:spPr>
          <a:xfrm>
            <a:off x="348120" y="3429000"/>
            <a:ext cx="3352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Constantia"/>
              </a:rPr>
              <a:t>Német Gebirgsjägerek, </a:t>
            </a:r>
            <a:br>
              <a:rPr sz="1800"/>
            </a:br>
            <a:r>
              <a:rPr b="0" lang="hu-HU" sz="1800" spc="-1" strike="noStrike">
                <a:solidFill>
                  <a:srgbClr val="ffffff"/>
                </a:solidFill>
                <a:latin typeface="Constantia"/>
              </a:rPr>
              <a:t>repülőbe szállás előtt,</a:t>
            </a:r>
            <a:br>
              <a:rPr sz="1800"/>
            </a:br>
            <a:r>
              <a:rPr b="0" lang="hu-HU" sz="1800" spc="-1" strike="noStrike">
                <a:solidFill>
                  <a:srgbClr val="ffffff"/>
                </a:solidFill>
                <a:latin typeface="Constantia"/>
              </a:rPr>
              <a:t>a Krétai inváziót megelőző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Constantia"/>
              </a:rPr>
              <a:t>Brit és görög csapatok voltak Krétán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Constantia"/>
              </a:rPr>
              <a:t>A görögök elavult, első világháborús fegyvereket használtak, melyek kalibere eltért az angol fegyverekétől, ezért nem tudtak nekik lőszert adni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Constantia"/>
              </a:rPr>
              <a:t>A brit csapatok új-zélandi, ausztrál és angol katonákból álltak. Jól fel voltak fegyverezve, emellett légvédelmi ütegeik, illetve tankjaik is voltak.</a:t>
            </a:r>
            <a:br>
              <a:rPr sz="1600"/>
            </a:br>
            <a:r>
              <a:rPr b="0" lang="hu-HU" sz="1600" spc="-1" strike="noStrike">
                <a:solidFill>
                  <a:srgbClr val="ffffff"/>
                </a:solidFill>
                <a:latin typeface="Constantia"/>
              </a:rPr>
              <a:t>A tankok többsége viszont páncéltörő lövedékkel volt felszerelve, mely gyalogság ellen szinte hatástalan volt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0" name="Cím 2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2" descr=""/>
          <p:cNvPicPr/>
          <p:nvPr/>
        </p:nvPicPr>
        <p:blipFill>
          <a:blip r:embed="rId2"/>
          <a:stretch/>
        </p:blipFill>
        <p:spPr>
          <a:xfrm>
            <a:off x="611280" y="3429000"/>
            <a:ext cx="4248000" cy="2487600"/>
          </a:xfrm>
          <a:prstGeom prst="rect">
            <a:avLst/>
          </a:prstGeom>
          <a:ln w="0">
            <a:noFill/>
          </a:ln>
        </p:spPr>
      </p:pic>
      <p:sp>
        <p:nvSpPr>
          <p:cNvPr id="192" name="Szövegdoboz 4"/>
          <p:cNvSpPr/>
          <p:nvPr/>
        </p:nvSpPr>
        <p:spPr>
          <a:xfrm>
            <a:off x="5321880" y="3645000"/>
            <a:ext cx="278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Constantia"/>
              </a:rPr>
              <a:t>Brit tábornokok Krétá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Szövegdoboz 5"/>
          <p:cNvSpPr/>
          <p:nvPr/>
        </p:nvSpPr>
        <p:spPr>
          <a:xfrm>
            <a:off x="4947840" y="4437000"/>
            <a:ext cx="423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Constantia"/>
              </a:rPr>
              <a:t>A szövetséges erők száma körülbelül </a:t>
            </a:r>
            <a:br>
              <a:rPr sz="1800"/>
            </a:br>
            <a:r>
              <a:rPr b="0" lang="hu-HU" sz="1800" spc="-1" strike="noStrike">
                <a:solidFill>
                  <a:srgbClr val="ffffff"/>
                </a:solidFill>
                <a:latin typeface="Constantia"/>
              </a:rPr>
              <a:t>40.000 főre tehető ki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6" dur="5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Constantia"/>
              </a:rPr>
              <a:t>Mindössze 10 napig folytak a harcok, melyek végül német győzelemmel végződtek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Constantia"/>
              </a:rPr>
              <a:t>Hiába voltak a szövetségesek túlerőben, a német ejtőernyősöket rendkívül jól szerelték fel, és a megfelelő fegyvereknek, illetve kiképzésnek köszönhetően a hadművelet sikeresnek bizonyult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Constantia"/>
              </a:rPr>
              <a:t>A harcok során mindkét oldalon akadtak bőséges számban hadifoglyok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5" name="Cím 2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2" descr=""/>
          <p:cNvPicPr/>
          <p:nvPr/>
        </p:nvPicPr>
        <p:blipFill>
          <a:blip r:embed="rId2"/>
          <a:stretch/>
        </p:blipFill>
        <p:spPr>
          <a:xfrm>
            <a:off x="395280" y="3933720"/>
            <a:ext cx="3728880" cy="231624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4" descr=""/>
          <p:cNvPicPr/>
          <p:nvPr/>
        </p:nvPicPr>
        <p:blipFill>
          <a:blip r:embed="rId3"/>
          <a:stretch/>
        </p:blipFill>
        <p:spPr>
          <a:xfrm>
            <a:off x="4716360" y="3933720"/>
            <a:ext cx="3311640" cy="22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0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0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Constantia"/>
              </a:rPr>
              <a:t>Német oldalon nagyjából 7000 fő esett el, vagy került hadifogságba. Körülbelül 400 repülőgépet lőttek le az összesen 1100 darabból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Constantia"/>
              </a:rPr>
              <a:t>A szövetségesek oldalán 24000 fő a veszteségek száma, ebből 17000 hadifogoly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9" name="Cím 2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2" descr=""/>
          <p:cNvPicPr/>
          <p:nvPr/>
        </p:nvPicPr>
        <p:blipFill>
          <a:blip r:embed="rId2"/>
          <a:stretch/>
        </p:blipFill>
        <p:spPr>
          <a:xfrm>
            <a:off x="539640" y="2565360"/>
            <a:ext cx="3765600" cy="254484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3" descr=""/>
          <p:cNvPicPr/>
          <p:nvPr/>
        </p:nvPicPr>
        <p:blipFill>
          <a:blip r:embed="rId3"/>
          <a:stretch/>
        </p:blipFill>
        <p:spPr>
          <a:xfrm>
            <a:off x="4572000" y="2565360"/>
            <a:ext cx="3960720" cy="2533680"/>
          </a:xfrm>
          <a:prstGeom prst="rect">
            <a:avLst/>
          </a:prstGeom>
          <a:ln w="0">
            <a:noFill/>
          </a:ln>
        </p:spPr>
      </p:pic>
      <p:sp>
        <p:nvSpPr>
          <p:cNvPr id="202" name="Szövegdoboz 5"/>
          <p:cNvSpPr/>
          <p:nvPr/>
        </p:nvSpPr>
        <p:spPr>
          <a:xfrm>
            <a:off x="399240" y="5373720"/>
            <a:ext cx="349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Constantia"/>
              </a:rPr>
              <a:t>Német katonák hadifogságb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Szövegdoboz 6"/>
          <p:cNvSpPr/>
          <p:nvPr/>
        </p:nvSpPr>
        <p:spPr>
          <a:xfrm>
            <a:off x="4387320" y="5373720"/>
            <a:ext cx="406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Constantia"/>
              </a:rPr>
              <a:t>Szövetséges katonák fogságba esé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8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4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4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Constantia"/>
              </a:rPr>
              <a:t>Az amerikai, illetve angol csapatok, látván a hadművelet sikerességét elhatározták, hogy hasonló ejtőernyős hadosztályokat létesítenek. E katonák bevetésére került sor a D-Nap során, illetve később, A Market Garden hadművelet alatt (Hollandia felszabadítása)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5" name="Cím 2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2" descr=""/>
          <p:cNvPicPr/>
          <p:nvPr/>
        </p:nvPicPr>
        <p:blipFill>
          <a:blip r:embed="rId2"/>
          <a:stretch/>
        </p:blipFill>
        <p:spPr>
          <a:xfrm>
            <a:off x="2195640" y="2997360"/>
            <a:ext cx="3462120" cy="3263760"/>
          </a:xfrm>
          <a:prstGeom prst="rect">
            <a:avLst/>
          </a:prstGeom>
          <a:ln w="0">
            <a:noFill/>
          </a:ln>
        </p:spPr>
      </p:pic>
      <p:sp>
        <p:nvSpPr>
          <p:cNvPr id="207" name="Szövegdoboz 4"/>
          <p:cNvSpPr/>
          <p:nvPr/>
        </p:nvSpPr>
        <p:spPr>
          <a:xfrm>
            <a:off x="6121080" y="5950080"/>
            <a:ext cx="267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Constantia"/>
              </a:rPr>
              <a:t>Menekülő brit katoná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1" dur="10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5T23:49:27Z</dcterms:created>
  <dc:creator>Bence</dc:creator>
  <dc:description/>
  <dc:language>en-US</dc:language>
  <cp:lastModifiedBy>Bence</cp:lastModifiedBy>
  <dcterms:modified xsi:type="dcterms:W3CDTF">2012-03-26T00:48:48Z</dcterms:modified>
  <cp:revision>8</cp:revision>
  <dc:subject/>
  <dc:title>A krétai csata</dc:title>
</cp:coreProperties>
</file>